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A7D-57B3-4208-9D62-E28F9E90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7BF-7314-4175-936B-AB407360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BBB-A129-4586-BB6B-9992EE22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C321-048A-46C4-91E4-0C2DF4EB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9DD3-9648-40CD-9D50-4C3FCF00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40E1-77FC-46DA-85D7-95CABB49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ECAE-0C92-4EDD-A3ED-E67DCC7F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9C1C-9EA5-46A6-AE66-6C5D0D42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5E7E-4A2F-4210-969F-55CBAEFE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5FA2-CDB6-401C-B191-872F63D1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0B5A-A30B-40CC-B44D-058406F4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4A7-5CBE-4CAE-AD1D-268B2CBF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8A92-FE0A-4072-B073-FCD594EA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313D-B826-4BD8-AF19-7B668767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3BB8-9AB1-412E-AB47-2A3173EF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A174-CCD8-45C6-A32C-58DD87D9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FE38-1DAB-4BD3-97D2-CE0D4CD0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66FE-E642-46AE-9777-04A90D54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1D1E-E1E4-4FB7-A6B1-BE822351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3C5-CEA4-4C56-B2B2-BB1A58F8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B97-0A96-47FA-A825-13386004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5E5-5EFA-4B80-87D3-C926E726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CBD-96A5-4ADA-95A6-085A100C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DE6C-3735-4CA9-B3CE-EC47AB72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4DA4-0013-4154-8119-36B7D804FE3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B139-E5FE-41C0-955D-7BE0D4841FE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Тақырыбы№ 9: Коммерциялық банктердің активті, пассивті және комиссиондық делдалдық операцияла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733920" y="114300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изинг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0276200">
            <a:off x="510840" y="759600"/>
            <a:ext cx="2760480" cy="908280"/>
          </a:xfrm>
          <a:custGeom>
            <a:avLst/>
            <a:gdLst>
              <a:gd name="textAreaLeft" fmla="*/ 509760 w 2760480"/>
              <a:gd name="textAreaRight" fmla="*/ 1868400 w 2760480"/>
              <a:gd name="textAreaTop" fmla="*/ 121680 h 908280"/>
              <a:gd name="textAreaBottom" fmla="*/ 786600 h 90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77" hR="21600" stAng="10800000" swAng="-5400000"/>
                <a:lnTo>
                  <a:pt x="10631" y="21600"/>
                </a:lnTo>
                <a:arcTo wR="7977" hR="21600" stAng="5400000" swAng="-2774794"/>
                <a:lnTo>
                  <a:pt x="21144" y="7200"/>
                </a:lnTo>
                <a:lnTo>
                  <a:pt x="17280" y="0"/>
                </a:lnTo>
                <a:lnTo>
                  <a:pt x="12504" y="7200"/>
                </a:lnTo>
                <a:lnTo>
                  <a:pt x="15497" y="7200"/>
                </a:lnTo>
                <a:arcTo wR="7977" hR="21600" stAng="2625206" swAng="2560887"/>
                <a:lnTo>
                  <a:pt x="9304" y="21299"/>
                </a:lnTo>
                <a:arcTo wR="7977" hR="21600" stAng="5613907" swAng="5186093"/>
                <a:close/>
              </a:path>
              <a:path fill="darkenLess" w="21600" h="21600">
                <a:moveTo>
                  <a:pt x="0" y="0"/>
                </a:moveTo>
                <a:arcTo wR="7977" hR="21600" stAng="10800000" swAng="-5400000"/>
                <a:lnTo>
                  <a:pt x="10631" y="21600"/>
                </a:lnTo>
                <a:arcTo wR="7977" hR="21600" stAng="5400000" swAng="213907"/>
                <a:lnTo>
                  <a:pt x="9304" y="21299"/>
                </a:lnTo>
                <a:arcTo wR="7977" hR="21600" stAng="5613907" swAng="5186093"/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09480" y="2057400"/>
            <a:ext cx="243864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шұғы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5880" y="380880"/>
            <a:ext cx="2667240" cy="1371600"/>
          </a:xfrm>
          <a:custGeom>
            <a:avLst/>
            <a:gdLst>
              <a:gd name="textAreaLeft" fmla="*/ 466560 w 2667240"/>
              <a:gd name="textAreaRight" fmla="*/ 1933920 w 2667240"/>
              <a:gd name="textAreaTop" fmla="*/ 183600 h 1371600"/>
              <a:gd name="textAreaBottom" fmla="*/ 11880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24480" y="2057400"/>
            <a:ext cx="2362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қаржылы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0880" y="380880"/>
            <a:ext cx="2438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шұғы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6858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04920"/>
            <a:ext cx="441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Verdana"/>
              </a:rPr>
              <a:t>Бұл мүліктің қызмет ету мерзіміне қарағанда, оның пайдалану мерзімінің қысқалығын және мүліктің құнын толық отемеуін сипаттай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2743200"/>
            <a:ext cx="2362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қаржылы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3429000"/>
            <a:ext cx="990360" cy="838080"/>
          </a:xfrm>
          <a:prstGeom prst="rightArrow">
            <a:avLst>
              <a:gd name="adj1" fmla="val 50000"/>
              <a:gd name="adj2" fmla="val 29543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304812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Verdana"/>
              </a:rPr>
              <a:t>Бұл уақытша пайдалануға берген лизинг затының мерзімі ішінде өзінің толық амортизациялық құнын төлеп шығуымен немесе өзін-өзі өтеуімен байланысты сипаттала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Verdana"/>
              </a:rPr>
              <a:t>Ішкі лизинг</a:t>
            </a:r>
            <a:r>
              <a:rPr b="0" lang="kk-KZ" sz="2800" spc="-1" strike="noStrike">
                <a:solidFill>
                  <a:srgbClr val="0066ff"/>
                </a:solidFill>
                <a:latin typeface="Verdana"/>
              </a:rPr>
              <a:t> – бұл, оның қатысушыларының бір елден болып келуімен байланысты сипаттала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Verdana"/>
              </a:rPr>
              <a:t>Халықаралық лизинг</a:t>
            </a:r>
            <a:r>
              <a:rPr b="0" lang="kk-KZ" sz="2800" spc="-1" strike="noStrike">
                <a:solidFill>
                  <a:srgbClr val="0066ff"/>
                </a:solidFill>
                <a:latin typeface="Verdana"/>
              </a:rPr>
              <a:t> – бір тарап немесе барлық тараптардың әр елден болып келуін сипаттай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Verdana"/>
              </a:rPr>
              <a:t>Сыртқы лизинг</a:t>
            </a:r>
            <a:r>
              <a:rPr b="0" lang="kk-KZ" sz="2800" spc="-1" strike="noStrike">
                <a:solidFill>
                  <a:srgbClr val="0066ff"/>
                </a:solidFill>
                <a:latin typeface="Verdana"/>
              </a:rPr>
              <a:t> – экспорттық және импорттық болып бөлінеді.Экспорттық лизингте шетел лизинг алушы болса, импортық лизингте шетел лизинг беруші болып табыла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Times New Roman"/>
              </a:rPr>
              <a:t>Өтімділігіне қарай банк активтері келесе топтарға бөлінед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- жоғары өтімді активт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- өтімді активт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- ұзақ мерзімді өтімді активт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315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i="1" lang="kk-KZ" sz="2800" spc="-1" strike="noStrike">
                <a:solidFill>
                  <a:srgbClr val="ffffff"/>
                </a:solidFill>
                <a:latin typeface="Times New Roman"/>
              </a:rPr>
              <a:t>Банк өтімділігі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– банктің  салымшылары, кредиторлары және басқа  клиенттері алдында алған міндеттемелерін ешқандай кедергісіз уақытында орындау қабілеті. Банк міндеттемелері нақты (реальные) және шартты (условные) болып екіге бөлінеді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7720" y="83772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i="1" lang="kk-KZ" sz="1800" spc="-1" strike="noStrike">
                <a:solidFill>
                  <a:srgbClr val="ffffff"/>
                </a:solidFill>
                <a:latin typeface="Verdana"/>
              </a:rPr>
              <a:t>Нақты міндеттемелер банктің балансында көрсетіледі. Оларға екінші деңгейдегі банктердің бухгалтерлік  есеп шоттар - жоспарындағы 2000-2999 шоттарындағы міндеттемелер жатады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1" i="1" lang="kk-KZ" sz="1800" spc="-1" strike="noStrike">
                <a:solidFill>
                  <a:srgbClr val="ffffff"/>
                </a:solidFill>
                <a:latin typeface="Verdana"/>
              </a:rPr>
              <a:t>талап еткенге дейінгі депозиттер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1" i="1" lang="kk-KZ" sz="1800" spc="-1" strike="noStrike">
                <a:solidFill>
                  <a:srgbClr val="ffffff"/>
                </a:solidFill>
                <a:latin typeface="Verdana"/>
              </a:rPr>
              <a:t>басқа банктерден алған кредиттер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1" i="1" lang="kk-KZ" sz="1800" spc="-1" strike="noStrike">
                <a:solidFill>
                  <a:srgbClr val="ffffff"/>
                </a:solidFill>
                <a:latin typeface="Verdana"/>
              </a:rPr>
              <a:t>банкаралық овернайт депозиттері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1" i="1" lang="kk-KZ" sz="1800" spc="-1" strike="noStrike">
                <a:solidFill>
                  <a:srgbClr val="ffffff"/>
                </a:solidFill>
                <a:latin typeface="Verdana"/>
              </a:rPr>
              <a:t>мерзімді депозиттер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1" i="1" lang="kk-KZ" sz="1800" spc="-1" strike="noStrike">
                <a:solidFill>
                  <a:srgbClr val="ffffff"/>
                </a:solidFill>
                <a:latin typeface="Verdana"/>
              </a:rPr>
              <a:t>клиенттер алдындағы міндеттер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1" i="1" lang="kk-KZ" sz="1800" spc="-1" strike="noStrike">
                <a:solidFill>
                  <a:srgbClr val="ffffff"/>
                </a:solidFill>
                <a:latin typeface="Verdana"/>
              </a:rPr>
              <a:t>айналымға шығарылған депозиттік сертификаттар, бағалы қағаздар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1" i="1" lang="kk-KZ" sz="1800" spc="-1" strike="noStrike">
                <a:solidFill>
                  <a:srgbClr val="ffffff"/>
                </a:solidFill>
                <a:latin typeface="Verdana"/>
              </a:rPr>
              <a:t>субординациялық қарыздар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1" i="1" lang="kk-KZ" sz="1800" spc="-1" strike="noStrike">
                <a:solidFill>
                  <a:srgbClr val="ffffff"/>
                </a:solidFill>
                <a:latin typeface="Verdana"/>
              </a:rPr>
              <a:t>есептелген пайыздық төлемдер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1" i="1" lang="kk-KZ" sz="1800" spc="-1" strike="noStrike">
                <a:solidFill>
                  <a:srgbClr val="ffffff"/>
                </a:solidFill>
                <a:latin typeface="Verdana"/>
              </a:rPr>
              <a:t>банк төлемдері бойынша есептесу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1" i="1" lang="kk-KZ" sz="1800" spc="-1" strike="noStrike">
                <a:solidFill>
                  <a:srgbClr val="ffffff"/>
                </a:solidFill>
                <a:latin typeface="Verdana"/>
              </a:rPr>
              <a:t>басқа кредиторлармен есептесу және т.б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315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1905120"/>
            <a:ext cx="66294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i="1" lang="kk-KZ" sz="2800" spc="-1" strike="noStrike">
                <a:solidFill>
                  <a:srgbClr val="ffffff"/>
                </a:solidFill>
                <a:latin typeface="Times New Roman"/>
              </a:rPr>
              <a:t>Шартты міндеттемелерге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- банктің баланстан тыс пассивтік және активтік операцияларынан туындайтын міндеттемелер мен талаптар жата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66ff33"/>
                </a:solidFill>
                <a:latin typeface="Verdana"/>
              </a:rPr>
              <a:t>Жалпы активтерді,соның ішінде несиелерді жіктеу және несиелік тәуекелді бағалау манадай </a:t>
            </a:r>
            <a:r>
              <a:rPr b="0" i="1" lang="kk-KZ" sz="3200" spc="-1" strike="noStrike">
                <a:solidFill>
                  <a:srgbClr val="66ff33"/>
                </a:solidFill>
                <a:latin typeface="Verdana"/>
              </a:rPr>
              <a:t>критерилерді</a:t>
            </a:r>
            <a:r>
              <a:rPr b="0" lang="kk-KZ" sz="3200" spc="-1" strike="noStrike">
                <a:solidFill>
                  <a:srgbClr val="66ff33"/>
                </a:solidFill>
                <a:latin typeface="Verdana"/>
              </a:rPr>
              <a:t> ескере отырып жүзеге асырады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ff"/>
                </a:solidFill>
                <a:latin typeface="Verdana"/>
              </a:rPr>
              <a:t>-арыз алушының қаржылық жағдай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ff"/>
                </a:solidFill>
                <a:latin typeface="Verdana"/>
              </a:rPr>
              <a:t>-қамтамасыз ету сапас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ff"/>
                </a:solidFill>
                <a:latin typeface="Verdana"/>
              </a:rPr>
              <a:t>-несиенің мерзімінің  ұзартылу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ff"/>
                </a:solidFill>
                <a:latin typeface="Verdana"/>
              </a:rPr>
              <a:t>-өзге де мерзімі өткен міндеттемелердің болу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Times New Roman"/>
              </a:rPr>
              <a:t>Таңдап алынған жіктеу өлшеміне қарай несиенің  мынадай ең маңызды формаларын бөліп көрсетуге болады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Қызмет ету саласына қарай – ұлттық және халықаралық нес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Несие мәмілесінің объектісіне қарай – ақшалай және тауарлық нес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Несие қатынасының субъектісіне қарай – банктік, коммерциялық,халықаралық несиел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Verdana"/>
              </a:rPr>
              <a:t>Несие өзінің қызметі – айналысының құралын құруға байланыст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Verdana"/>
              </a:rPr>
              <a:t>Біріншіден, ақша белгілерін дайындау, шығару, есеп жүргізу мен сақтау шығындарын қысқартад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Verdana"/>
              </a:rPr>
              <a:t>Екіншіден, несие бос ақша қаржыларын сан рет пайдалана отырып, қолма-қол ақшасыз есептесулерді қысқатып, айналым шығындарын азайтад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Verdana"/>
              </a:rPr>
              <a:t>Үшіншіден, айналымның шығындары маусымдық қажеттіліктерді қосымша қаржылар есебінен көбейткенде қорлардың кемуіне байланысты қысқара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Verdana"/>
              </a:rPr>
              <a:t>Мақсаты: Банктердің активті, пассивті, несиелік, банктердің активті операцияларын сипаттау және депозиттердің түсінігін және олардың түрлерін сипатта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657600" y="304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Несие формала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762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ұлтты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762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халықаралы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676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ақшал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438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банкті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2004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мемлекетті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4038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ипотекалы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4876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тұтынушылы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тауарлы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743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коммерциялы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3581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тұтынушылы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лизингті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18288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ақшал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тауарлы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81680" y="3809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арала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52480" y="1219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057400" y="1295280"/>
            <a:ext cx="14479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828800" y="53352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533520"/>
            <a:ext cx="106704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Verdana"/>
              </a:rPr>
              <a:t>Жоспар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kk-KZ" sz="3200" spc="-1" strike="noStrike">
                <a:solidFill>
                  <a:srgbClr val="0000ff"/>
                </a:solidFill>
                <a:latin typeface="Verdana"/>
              </a:rPr>
              <a:t> Инвестициялық, факторингтік, лизингтік, консорциялдық операцияла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Verdana"/>
              </a:rPr>
              <a:t>Пассивті операцияла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Verdana"/>
              </a:rPr>
              <a:t>Несиелік операцияла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Verdana"/>
              </a:rPr>
              <a:t>Банктердің активті операциялар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Verdana"/>
              </a:rPr>
              <a:t>Депозиттер түсінігі және оның түрлер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5050"/>
                </a:solidFill>
                <a:latin typeface="Times New Roman"/>
              </a:rPr>
              <a:t>Инвестициялық жоба – алға қойған мақсатқа жету үшін қандай да бір жобаға капитал жұмсаумен байланысты жасалатын ұйымдастыру – экономикалық шешімдердің жүйесін білдіреді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660066"/>
                </a:solidFill>
                <a:latin typeface="Verdana"/>
              </a:rPr>
              <a:t>Инвестициялардың тартымдылығын бағалау көрсеткіштеріне мыналар жатады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660066"/>
                </a:solidFill>
                <a:latin typeface="Verdana"/>
              </a:rPr>
              <a:t>Таза ұғымдық құнды анықтау әдісі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660066"/>
                </a:solidFill>
                <a:latin typeface="Verdana"/>
              </a:rPr>
              <a:t>Инвестицияның рентабелділігін есептеу әдісі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660066"/>
                </a:solidFill>
                <a:latin typeface="Verdana"/>
              </a:rPr>
              <a:t>Ішкі пайда нормасын есептеу әдестері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660066"/>
                </a:solidFill>
                <a:latin typeface="Verdana"/>
              </a:rPr>
              <a:t>Инвестицияның өтелу мерзімін есептеу әдісі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Verdana"/>
              </a:rPr>
              <a:t>Факторинг</a:t>
            </a:r>
            <a:r>
              <a:rPr b="0" lang="kk-KZ" sz="3200" spc="-1" strike="noStrike">
                <a:solidFill>
                  <a:srgbClr val="ff0066"/>
                </a:solidFill>
                <a:latin typeface="Verdana"/>
              </a:rPr>
              <a:t> – бұл тауарларды немесе қызметтерді жабдықтаушыдан төлем құжаттарын сатып алуды білдіред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Verdana"/>
              </a:rPr>
              <a:t>Факторинг</a:t>
            </a:r>
            <a:r>
              <a:rPr b="0" lang="kk-KZ" sz="3200" spc="-1" strike="noStrike">
                <a:solidFill>
                  <a:srgbClr val="ff0066"/>
                </a:solidFill>
                <a:latin typeface="Verdana"/>
              </a:rPr>
              <a:t> – жабдықтаушы – клиенттің жабдықтаған тауары мен көрсеткен қызметтері үшін төленбеген төлем талабын банкке сатумен байланысты комиссиондық – делдалдық опера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8120" y="152280"/>
            <a:ext cx="3276360" cy="190512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38088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Verdana"/>
              </a:rPr>
              <a:t>Факторинг операциясына үш тарап қатысад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457200"/>
            <a:ext cx="1904760" cy="2209680"/>
          </a:xfrm>
          <a:custGeom>
            <a:avLst/>
            <a:gdLst>
              <a:gd name="textAreaLeft" fmla="*/ 254880 w 1904760"/>
              <a:gd name="textAreaRight" fmla="*/ 1649880 w 190476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2819520"/>
            <a:ext cx="8229600" cy="40384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3581280"/>
            <a:ext cx="746748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i="1" lang="kk-KZ" sz="2200" spc="-1" strike="noStrike">
                <a:solidFill>
                  <a:srgbClr val="000000"/>
                </a:solidFill>
                <a:latin typeface="Verdana"/>
              </a:rPr>
              <a:t>Факторингтік компания-</a:t>
            </a:r>
            <a:r>
              <a:rPr b="0" lang="kk-KZ" sz="2200" spc="-1" strike="noStrike">
                <a:solidFill>
                  <a:srgbClr val="000000"/>
                </a:solidFill>
                <a:latin typeface="Verdana"/>
              </a:rPr>
              <a:t>өздерінің клиенттерінен шот-фактураны сатып алатын арнайы мекем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i="1" lang="kk-KZ" sz="2200" spc="-1" strike="noStrike">
                <a:solidFill>
                  <a:srgbClr val="000000"/>
                </a:solidFill>
                <a:latin typeface="Verdana"/>
              </a:rPr>
              <a:t>Клиент – </a:t>
            </a:r>
            <a:r>
              <a:rPr b="0" lang="kk-KZ" sz="2200" spc="-1" strike="noStrike">
                <a:solidFill>
                  <a:srgbClr val="000000"/>
                </a:solidFill>
                <a:latin typeface="Verdana"/>
              </a:rPr>
              <a:t>факторинг компаниясымен келісімшарт жасасушы өнеркәсіптік немесе сауда фирмас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i="1" lang="kk-KZ" sz="2200" spc="-1" strike="noStrike">
                <a:solidFill>
                  <a:srgbClr val="000000"/>
                </a:solidFill>
                <a:latin typeface="Verdana"/>
              </a:rPr>
              <a:t>Кәсіпорын – </a:t>
            </a:r>
            <a:r>
              <a:rPr b="0" lang="kk-KZ" sz="2200" spc="-1" strike="noStrike">
                <a:solidFill>
                  <a:srgbClr val="000000"/>
                </a:solidFill>
                <a:latin typeface="Verdana"/>
              </a:rPr>
              <a:t>тауарды сатып алушы – фирм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581280" y="2590920"/>
            <a:ext cx="1905120" cy="1066680"/>
          </a:xfrm>
          <a:custGeom>
            <a:avLst/>
            <a:gdLst>
              <a:gd name="textAreaLeft" fmla="*/ 0 w 1905120"/>
              <a:gd name="textAreaRight" fmla="*/ 1905480 w 190512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28195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акторингтік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операциял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609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Verdana"/>
              </a:rPr>
              <a:t>Ішкі аядағы операциял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16765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Verdana"/>
              </a:rPr>
              <a:t>Ашық және жабық факторин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2743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Verdana"/>
              </a:rPr>
              <a:t>Қарызды инкассациял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411480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Verdana"/>
              </a:rPr>
              <a:t>Қарыз бойынша талаптарды алдын ала төле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5943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Verdana"/>
              </a:rPr>
              <a:t>Жабдықтаушының есебін ұйымдасты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60958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Verdana"/>
              </a:rPr>
              <a:t>Несиелік тәуекелден сақтанды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5105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Verdana"/>
              </a:rPr>
              <a:t>Сыртқы сауда бойынша операциял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Verdana"/>
              </a:rPr>
              <a:t>Клиентке қызмет көрсе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438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Verdana"/>
              </a:rPr>
              <a:t>Несиеле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6094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Verdana"/>
              </a:rPr>
              <a:t>Ақшалай талаптарды төле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2971800" y="1143000"/>
            <a:ext cx="838080" cy="1371600"/>
          </a:xfrm>
          <a:prstGeom prst="line">
            <a:avLst/>
          </a:prstGeom>
          <a:ln w="64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1981080" y="2742840"/>
            <a:ext cx="15242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438280" y="3505320"/>
            <a:ext cx="106704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666520" y="3733920"/>
            <a:ext cx="121932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895480" y="3809880"/>
            <a:ext cx="1828800" cy="2210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3733920"/>
            <a:ext cx="685800" cy="2133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3505320"/>
            <a:ext cx="83808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62720" y="29718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334120" y="2057400"/>
            <a:ext cx="9144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800600" y="1143000"/>
            <a:ext cx="121932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66ff33"/>
                </a:solidFill>
                <a:latin typeface="Verdana"/>
              </a:rPr>
              <a:t>Лизинг</a:t>
            </a:r>
            <a:r>
              <a:rPr b="0" lang="kk-K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kk-KZ" sz="3200" spc="-1" strike="noStrike">
                <a:solidFill>
                  <a:srgbClr val="003300"/>
                </a:solidFill>
                <a:latin typeface="Verdana"/>
              </a:rPr>
              <a:t>– бұл лизинг берушінің өзіне тиесілі құрал – жабдықтары, машаналарды, ЭЕМ, ұйымдастыру техникаларды, өндіріске, сауда – саттыққа және қоймаға арналған құрылғыларды лизинг алушыға лизингтік төлем төлеу шартымен, белгіленген мерзімге пайдалануға беруін қарастыратын жалға беру шарт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20:09:46Z</dcterms:created>
  <dc:creator>Ромина</dc:creator>
  <dc:description/>
  <dc:language>en-US</dc:language>
  <cp:lastModifiedBy>Admin</cp:lastModifiedBy>
  <dcterms:modified xsi:type="dcterms:W3CDTF">2012-01-13T05:41:3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